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8C71-402F-4849-9F5A-92B6B4B64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2105-5F60-4435-98AB-0AD0BF04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864D-215D-4F82-B5D7-BF5AE920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EA6-4F28-45A9-B21F-83BD16E38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2884-A36D-4A8D-8471-79258CA7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B03F-CA8F-437C-B315-F69D8AD4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9C5B-3E76-4305-AD57-D1BB4AE2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7237-D574-4B5C-A6FE-ACDD6161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835-16AF-4FC8-959D-A18D0B47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C18-43A8-4284-9B88-FEF3CE71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ACA-A21B-421D-809D-C949FB2B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56F-A4B1-494F-98C1-4053D675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4708-2A86-4881-B574-0B904AE8D3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2282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G Times"/>
                <a:ea typeface="Times New Roman"/>
              </a:rPr>
              <a:t>For Official U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760" y="2637000"/>
            <a:ext cx="1828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1066680" cy="134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77760" y="3278160"/>
          <a:ext cx="1828800" cy="1035000"/>
        </p:xfrm>
        <a:graphic>
          <a:graphicData uri="http://schemas.openxmlformats.org/drawingml/2006/table">
            <a:tbl>
              <a:tblPr/>
              <a:tblGrid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256320" y="4465440"/>
            <a:ext cx="634500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  <a:ea typeface="Times New Roman"/>
              </a:rPr>
              <a:t>UNITED STATES AR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  <a:ea typeface="Times New Roman"/>
              </a:rPr>
              <a:t>SOLDIER SUPPORT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G Times"/>
                <a:ea typeface="Times New Roman"/>
              </a:rPr>
              <a:t>REVIEW PERSONNEL EVALU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G Times"/>
                <a:ea typeface="Times New Roman"/>
              </a:rPr>
              <a:t>Student Hand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ctr" pos="74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680" y="8153280"/>
            <a:ext cx="244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Official Use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852480" y="-762120"/>
            <a:ext cx="8562960" cy="10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609480" y="-76320"/>
            <a:ext cx="7924680" cy="929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533520"/>
            <a:ext cx="6858000" cy="967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895320" y="-61920"/>
            <a:ext cx="8648640" cy="926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5:05:52Z</dcterms:created>
  <dc:creator>Administrator</dc:creator>
  <dc:description/>
  <dc:language>en-US</dc:language>
  <cp:lastModifiedBy>Administrator</cp:lastModifiedBy>
  <dcterms:modified xsi:type="dcterms:W3CDTF">2005-08-15T18:38:21Z</dcterms:modified>
  <cp:revision>2</cp:revision>
  <dc:subject/>
  <dc:title>Slide 1</dc:title>
</cp:coreProperties>
</file>